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0D4-413B-4A18-9CB7-A2D7BD13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74D-F10D-4BD0-8525-5F391785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352-7D2B-4E50-B22F-D8E2F5BE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5BE-0967-4380-A0CC-C1131E93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547-0D42-4F59-B992-1BD94CB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502-1B86-4FBF-9CD4-9055415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E37-E5F6-46EF-B44A-CF84EAAA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4E2-821D-4DE9-A237-F6A665D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9AB-BB07-4E8A-81ED-40520C4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CAE-04D3-4B76-99C9-49EC34A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3FF-1D76-4BCF-A016-7F03E93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A37-524B-4EB2-BC09-47464C2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D9C2-222E-4860-98CE-C371D9426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6 Ty,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lásky,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tovan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Bože lás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e zľutov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slať ráč s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losti nám d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pred pád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e ruky chrá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šade predchádz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a tvá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r svät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nás mocne p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ezmedzne blížny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lovať nás uč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to by pad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ôž mu, nech v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duši mu roz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asnej viery l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srdce tvrdé často b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pozná sú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ce odpúšť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meň ho ty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meno tvoje vzý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a krivdy ho nauč zabúda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sa nad nami denne zľutováv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;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kiež my ťa za to stále chválime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ocnú ru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ému rád dá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nás to nau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e, prosím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13:59Z</dcterms:modified>
  <cp:revision>22</cp:revision>
  <dc:subject/>
  <dc:title>Je veľký náš Pán, on slávy je Kráľ Nech do všetkých strán  spev vrúcnych znie chvál.</dc:title>
</cp:coreProperties>
</file>